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601-C105-4B40-AFC6-F83D6D45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3D3-641A-4B8A-B4A5-A294B4C4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588-8DE9-4795-8FB0-F43BB04F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BB1-71AB-4D0F-877F-EE946DD9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A39-1C3D-4FDC-A31D-57C63456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A6B-E9F1-4F42-A35F-939E29FE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F20F-D171-42A5-A13A-C4A4E3CC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A0D-61F7-49B1-A8B7-3DCCB812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26E-FECB-48C5-BF23-DEDCF3A5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809-3CBB-47CF-8AB3-EE068D84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9E7-5A04-445D-A246-B94F0FDA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135-2617-4E7E-AEF8-892B45DD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FC62-CD7C-4060-8A33-8E8D490B9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99 Víťazom v boji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dá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a dal sám seb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mňa i t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||: by mannou z neb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z sýtil nás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ťazom v boj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už odev chys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čisté rúc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vostne zdobené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v ňom je naš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ása večne is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krvou jeho bolo zbielen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m rúchu spás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nebies krás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na večné čas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vojsť dá Pán.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ťazom v boji Pán život d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ľub večnej sláv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pozemských krá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smrť už nik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bude mať pr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ončí sa hriech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trap bôľny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to vždy bde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ožiu moc ver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k víťazstvu spe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Pánom vpred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íťazom v boji nič už neuško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 z Božích rúk nemôže vyrvať i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svoji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stou spásy verne vo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zlobou chráni diel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časoch zl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boji časn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ťazstve vzác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v domove krás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ta ich Pán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ťazom v boj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á zo skrytej mann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n, čo raz sám s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lebom stal pre ni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lad duše stíši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požehna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učí nás ž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darov nebesk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0:56:00Z</dcterms:modified>
  <cp:revision>22</cp:revision>
  <dc:subject/>
  <dc:title>Je veľký náš Pán, on slávy je Kráľ Nech do všetkých strán  spev vrúcnych znie chvál.</dc:title>
</cp:coreProperties>
</file>